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00D-D7ED-4412-88D5-26F05B7C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ADD-FBE5-4705-A9A8-01293A5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471-66B2-443F-8496-3941C1BD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B79-E648-4D9A-A473-FF8F9F9F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B2D-9F58-4E37-8B4E-90B7F21B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952E-418E-4D2A-B6F0-597692D1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835-C11F-436A-9081-075337E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C7FF-A8E0-4DC8-BF3E-F18C448B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8C12-C5D2-4397-9665-A333ADF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5465-2F76-443A-92A2-20B4059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4FDE-20F9-494F-A6AD-77FFE0B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742-6A9E-40D8-92B9-4A742AB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A2A-38EA-46D4-A7D8-8E1BD95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4E2-C249-43F3-A40D-2F1714A9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456-F819-4D06-A19A-51EB0C6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3F99-371D-4338-9475-2632D95B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2609-3FC0-4893-AF7C-003F3105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E70-736A-4D78-9486-B68B165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E0B-8D93-4879-A996-92D8AC9F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56F-7FCE-49AA-AB28-67FD0AE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2D8-07C6-4708-8611-B0931A7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3D6-C6D3-4A79-906F-42CA827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F9A-AA8A-4D69-B123-8B6505C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EC4-4A37-4B5C-81A2-90497E5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387-2B17-4D2B-9E7F-54400EAA08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C767-C563-4442-8873-6BCD2F19E4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tivation and 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otivational Researc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em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Mo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Some Recent Thoughts about Money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asons are the single most important reason that people work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60% is composed of other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co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job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%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%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546880" y="1243080"/>
          <a:ext cx="328428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6880" y="1243080"/>
                    <a:ext cx="328428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do Workers Want From Their Job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from worker to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ervisors wants compared to Workers wa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and growth with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loyalty to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tful discip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appreciation for work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etic understanding of pers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ing “in” on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appreciation for work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ing “in” on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etic understanding of pers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and growth with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loyalty to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tful discip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do Workers Want?—Other Finding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continue to show the importance for managers to assess the needs of their employees and to be sensitive to these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ories of Behavi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-Orient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u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Mot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Need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Mot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tegories of Activ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Directe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a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st need at a given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ength of the need tends to decrease as one engages i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otives, Goals, and Activ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10120" y="2348280"/>
            <a:ext cx="4856400" cy="3745800"/>
            <a:chOff x="3210120" y="2348280"/>
            <a:chExt cx="4856400" cy="3745800"/>
          </a:xfrm>
        </p:grpSpPr>
        <p:cxnSp>
          <p:nvCxnSpPr>
            <p:cNvPr id="95" name="_s11287"/>
            <p:cNvCxnSpPr>
              <a:stCxn id="96" idx="0"/>
              <a:endCxn id="97" idx="2"/>
            </p:cNvCxnSpPr>
            <p:nvPr/>
          </p:nvCxnSpPr>
          <p:spPr>
            <a:xfrm flipH="1" flipV="1" rot="5400000">
              <a:off x="3832560" y="5543640"/>
              <a:ext cx="221040" cy="216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1284"/>
            <p:cNvCxnSpPr>
              <a:stCxn id="99" idx="1"/>
              <a:endCxn id="100" idx="2"/>
            </p:cNvCxnSpPr>
            <p:nvPr/>
          </p:nvCxnSpPr>
          <p:spPr>
            <a:xfrm rot="10800000">
              <a:off x="6370560" y="4109760"/>
              <a:ext cx="24264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1280"/>
            <p:cNvCxnSpPr>
              <a:stCxn id="100" idx="0"/>
              <a:endCxn id="102" idx="2"/>
            </p:cNvCxnSpPr>
            <p:nvPr/>
          </p:nvCxnSpPr>
          <p:spPr>
            <a:xfrm flipH="1" flipV="1" rot="5400000">
              <a:off x="6501240" y="3319920"/>
              <a:ext cx="221040" cy="48168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1278"/>
            <p:cNvCxnSpPr>
              <a:stCxn id="97" idx="3"/>
              <a:endCxn id="104" idx="2"/>
            </p:cNvCxnSpPr>
            <p:nvPr/>
          </p:nvCxnSpPr>
          <p:spPr>
            <a:xfrm flipV="1">
              <a:off x="4668840" y="2788920"/>
              <a:ext cx="728640" cy="242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1277"/>
            <p:cNvCxnSpPr>
              <a:stCxn id="102" idx="1"/>
              <a:endCxn id="104" idx="2"/>
            </p:cNvCxnSpPr>
            <p:nvPr/>
          </p:nvCxnSpPr>
          <p:spPr>
            <a:xfrm rot="10800000">
              <a:off x="5396400" y="2788560"/>
              <a:ext cx="72864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1276"/>
            <p:cNvCxnSpPr>
              <a:stCxn id="107" idx="3"/>
              <a:endCxn id="104" idx="2"/>
            </p:cNvCxnSpPr>
            <p:nvPr/>
          </p:nvCxnSpPr>
          <p:spPr>
            <a:xfrm flipV="1">
              <a:off x="4668840" y="2788920"/>
              <a:ext cx="72864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1272"/>
            <p:cNvSpPr/>
            <p:nvPr/>
          </p:nvSpPr>
          <p:spPr>
            <a:xfrm>
              <a:off x="4670640" y="234828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ti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1273"/>
            <p:cNvSpPr/>
            <p:nvPr/>
          </p:nvSpPr>
          <p:spPr>
            <a:xfrm>
              <a:off x="3215520" y="300960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1274"/>
            <p:cNvSpPr/>
            <p:nvPr/>
          </p:nvSpPr>
          <p:spPr>
            <a:xfrm>
              <a:off x="6125400" y="300960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hav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1275"/>
            <p:cNvSpPr/>
            <p:nvPr/>
          </p:nvSpPr>
          <p:spPr>
            <a:xfrm>
              <a:off x="3215520" y="499356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hav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1279"/>
            <p:cNvSpPr/>
            <p:nvPr/>
          </p:nvSpPr>
          <p:spPr>
            <a:xfrm>
              <a:off x="5639400" y="3670920"/>
              <a:ext cx="1463040" cy="43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-Directed Behav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1283"/>
            <p:cNvSpPr/>
            <p:nvPr/>
          </p:nvSpPr>
          <p:spPr>
            <a:xfrm>
              <a:off x="6613200" y="433080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 Ac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1286"/>
            <p:cNvSpPr/>
            <p:nvPr/>
          </p:nvSpPr>
          <p:spPr>
            <a:xfrm>
              <a:off x="3210120" y="5654880"/>
              <a:ext cx="1463400" cy="43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-Directed Ac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ectancy Theo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relationship between effort a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relationship between good performance and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livery or achievement of valued outcomes or rewards, intrinsic, extrinsic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vailabili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directly to past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 can either be actual or vic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is an environment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sonality Develop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dividuals mature, they develop habit patterns, or conditioned responses, various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se habit patterns, as perceived by others, determines their pers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erarchy of Need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ological – food, clothing, and sh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(security)- need for self-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(affiliation)- need to belong to and be accepted by vari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em (recognition) – recognition and respect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ctualization – the need to maximize one’s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derfer’s ERG Theo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vised realigned version of Maslow’s hierarchy of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21:08:31Z</dcterms:created>
  <dc:creator> </dc:creator>
  <dc:description/>
  <dc:language>en-US</dc:language>
  <cp:lastModifiedBy>AEURY</cp:lastModifiedBy>
  <dcterms:modified xsi:type="dcterms:W3CDTF">2006-09-05T16:49:10Z</dcterms:modified>
  <cp:revision>5</cp:revision>
  <dc:subject/>
  <dc:title>Motivation and Behavior</dc:title>
</cp:coreProperties>
</file>